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7DD-AA21-4325-8207-912E5FA2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AAD-51F1-4262-9713-FAC7530D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711-4E2F-49F1-A9F0-AF756FE5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391-DC12-4D0D-AB1D-C8722D0B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51F-38E0-4762-84CF-380B3DB4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320-C836-474C-8BBA-9D3774F5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969-08B4-48B3-A798-AD20EC25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AB8-7087-4091-83E9-367AF037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3D5-FBCB-440B-A0CA-A6A2D46E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C08-C1B3-4613-B631-BC3F1AD1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4CE-75F8-45E7-9C53-43F752D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31D-5835-4B1F-BC32-C9B5296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FD0E-3A19-433C-9926-09FF6CAA3DF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222640"/>
          </a:xfrm>
          <a:prstGeom prst="rect">
            <a:avLst/>
          </a:prstGeom>
          <a:solidFill>
            <a:srgbClr val="c00000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Reforma de la Ley 24522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por Ley 26684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El Trabajador y la Insolv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logoA&amp;B"/>
          <p:cNvPicPr/>
          <p:nvPr/>
        </p:nvPicPr>
        <p:blipFill>
          <a:blip r:embed="rId1"/>
          <a:stretch/>
        </p:blipFill>
        <p:spPr>
          <a:xfrm>
            <a:off x="539640" y="5643720"/>
            <a:ext cx="3008520" cy="71748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6165360" y="5589720"/>
            <a:ext cx="22122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00000"/>
                </a:solidFill>
                <a:latin typeface="Calibri"/>
              </a:rPr>
              <a:t>Juan A. An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jaa@allendebrea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jaa@juanani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5 CuadroTexto"/>
          <p:cNvSpPr/>
          <p:nvPr/>
        </p:nvSpPr>
        <p:spPr>
          <a:xfrm>
            <a:off x="1116000" y="38606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Un análisis crítico de un probl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real que la Argentina no logra solu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El Objetivo de la L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xposición de motivos del proyecto del Poder Ejecu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priorizar la subsistencia de las empresas</a:t>
            </a:r>
            <a:r>
              <a:rPr b="0" i="1" lang="es-AR" sz="2000" spc="-1" strike="noStrike">
                <a:solidFill>
                  <a:srgbClr val="000000"/>
                </a:solidFill>
                <a:latin typeface="Calibri"/>
              </a:rPr>
              <a:t>, para </a:t>
            </a:r>
            <a:r>
              <a:rPr b="0" i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asegurar la continuidad de su producción y la generación de empleos</a:t>
            </a:r>
            <a:r>
              <a:rPr b="0" i="1" lang="es-AR" sz="2000" spc="-1" strike="noStrike">
                <a:solidFill>
                  <a:srgbClr val="000000"/>
                </a:solidFill>
                <a:latin typeface="Calibri"/>
              </a:rPr>
              <a:t>, dando esa posibilidad a las cooperativas de trabajo, de existir, conformadas por los mismos obreros que fueron dependientes de las empresas y/o fábricas quebradas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os Efectos de las Normas Leg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fectos Deseados: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s el cumplimiento del deber ser de la n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fectos No Deseados: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s el resultado no previsto de la conducta humana como consecuencia de la aplicación de la nor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Bases  del Diseño  de  la  Refor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PRIORIZAR EL MANTENIMIENTO DE LA EMP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ujeto Relevante: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OPERATIV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Ley de orienta en logra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Calibri"/>
              </a:rPr>
              <a:t>La Cooperativa debe ser la titular de la fi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AR" sz="2400" spc="-1" strike="noStrike">
                <a:solidFill>
                  <a:srgbClr val="ff0000"/>
                </a:solidFill>
                <a:latin typeface="Calibri"/>
              </a:rPr>
              <a:t>Concursada - Fallida o de sus bi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iseño Estratégico de su inserción en el proc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 el procedimiento del art.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 la continuación de la actividad en la quieb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mo adjudicataria de los bienes de la fal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La Cooperativa de Tra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ujeto Relev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Único legitimado a intervenir en el trámite (no se admiten mas de 1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e la Protege por el Estado, ya sea a través de sus sujetos vinculados (AFIP - BNA) o en forma direc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Art. 48 bis – protección económica financi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Art. 191 bis – protección téc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ujetos que la Confo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mpleados – acreedores laborales de la concursada - falli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Su Cap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réditos Laborales, pero de comportamiento “Mutante”, jurídicamente no exigibles porque se calculan de modo potencial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“Los créditos que corresponderían a los trabajadores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Constituir la Coopera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Sirven para Votar en el art. 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Sirven para compensar con los bienes de la fall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La Inconstitucionalidad  </a:t>
            </a:r>
            <a:br>
              <a:rPr sz="4400"/>
            </a:b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de la Refor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Puntos en Confli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El proceso del art. 48 y la operatividad del 48 b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La exigibilidad de créditos no exigibles, su cálculo y aplica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El conflicto de los créditos labor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creedores cooperativiza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creedores no cooperativiza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La Distribución de los bie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Modo de calcular los créditos labo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Se prescinde del régimen de privilegi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Los honorarios profesionales y gastos del proces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Efectos de la Refor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Efectos</a:t>
            </a: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 Deseado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Van a generarse un aumento de las Cooperativas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umento de trabajo para los “gestores de cooperativas” y “gestores de financiamiento públic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Efectos No Desea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Baja de Inversiones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Baja posibilidad de financiamiento para empresas en concur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fecta fundamentalmente a las PY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umento de trabajo en “negro” y desprotección del trabajad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libri"/>
              </a:rPr>
              <a:t>¿El Dilema Nunca Resuel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¿Estamos protegiendo efectivamente al trabajad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¿El acreedor laboral no es un rehén y le estamos proponiendo una ilus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¿Querrá el acreedor laboral ser protegido de este mo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¿No hay otro método mejor de protec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¿Qué hace el mun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¿Con estas normas generamos riqueza o distribuimos pobrez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8760" y="785880"/>
          <a:ext cx="8358120" cy="58989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baj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o  Cooper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 (monotribu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ones Emple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a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 (monotribu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. Col. Tra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nada Limit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ciones Pa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cción Contra Desp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cción Salario, Indeminizacione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ro Desemp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anso Sem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cción Matern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642960" y="1785960"/>
            <a:ext cx="831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c00000"/>
                </a:solidFill>
                <a:latin typeface="Arial"/>
              </a:rPr>
              <a:t>Muchas   Gra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ogoA&amp;B"/>
          <p:cNvPicPr/>
          <p:nvPr/>
        </p:nvPicPr>
        <p:blipFill>
          <a:blip r:embed="rId1"/>
          <a:stretch/>
        </p:blipFill>
        <p:spPr>
          <a:xfrm>
            <a:off x="928800" y="5608800"/>
            <a:ext cx="3152520" cy="752400"/>
          </a:xfrm>
          <a:prstGeom prst="rect">
            <a:avLst/>
          </a:prstGeom>
          <a:ln w="0">
            <a:noFill/>
          </a:ln>
        </p:spPr>
      </p:pic>
      <p:sp>
        <p:nvSpPr>
          <p:cNvPr id="60" name="4 CuadroTexto"/>
          <p:cNvSpPr/>
          <p:nvPr/>
        </p:nvSpPr>
        <p:spPr>
          <a:xfrm>
            <a:off x="6297120" y="5429160"/>
            <a:ext cx="246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00000"/>
                </a:solidFill>
                <a:latin typeface="Calibri"/>
              </a:rPr>
              <a:t>Juan A. An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jaa@allendebrea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jaa@juanani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0:44:41Z</dcterms:created>
  <dc:creator>Juan A. Anich</dc:creator>
  <dc:description/>
  <dc:language>en-US</dc:language>
  <cp:lastModifiedBy>Juan A. Anich</cp:lastModifiedBy>
  <dcterms:modified xsi:type="dcterms:W3CDTF">2011-07-14T14:52:51Z</dcterms:modified>
  <cp:revision>59</cp:revision>
  <dc:subject/>
  <dc:title>Diapositiva 1</dc:title>
</cp:coreProperties>
</file>